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5FD-5B48-48F5-A8BE-EF97E62C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0BC-7ED6-4574-B6E5-2DD4118A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93A9-7CF7-4582-B29B-BAD9A357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2D2E-F385-46D8-9626-BE010AEB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D96F-0E52-44CE-A054-3117AC10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8B3C-A6FD-4DCD-AE6C-6C5E0947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C5CB-C9F3-428D-BE3A-D8E61A93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851-4560-45CE-9D3D-E6A2ACC7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5B86-1B9B-40A3-867C-D31429F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193-CAEE-4403-9032-CA145AA7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96B-D0B4-4BF8-AE88-351998A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AA6F-EBFA-4B62-8D31-61C4BA5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F4B2-D099-4C41-AE8B-EE15DCDBD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LAlcor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5/Kkk-carpetbagger-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wa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as a name given to southerners who didn’t support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operated with the slaves to rebuild the Sou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t “scoundrel” or “worthless rasc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came about: southerners thought scalawags were bad people for not supporting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ere already in the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non slave holding farmers or busin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James L. Alco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845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172200"/>
            <a:ext cx="29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James_L._Al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6172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L. Alcorn (a scalaw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petbagg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-Carpetbaggers is a derogatory term that was given to northerners who traveled to the south for any reason. Although it was an insult some of them were really interested in helping the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name came about: The name came from the carpet bags that they used to carry their poss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were found by the Ku Klux Klan they were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petbaggers were greedy; they came to the south for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Kkk-carpetbagger-carto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62485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File:Kkk-carpetbagger-carto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by, Joyce et. al. (2003). The American Republic to 1877. New York: Glencoe/McGraw-H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Highways, Retrieved May 8, 2009, from Scalawags and Carpetbaggers Web site: http://www.u-s-history.com/pages/h24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8:04Z</dcterms:created>
  <dc:creator>cfisd</dc:creator>
  <dc:description/>
  <dc:language>en-US</dc:language>
  <cp:lastModifiedBy>cfisd</cp:lastModifiedBy>
  <dcterms:modified xsi:type="dcterms:W3CDTF">2009-05-08T18:56:25Z</dcterms:modified>
  <cp:revision>8</cp:revision>
  <dc:subject/>
  <dc:title>Slide 1</dc:title>
</cp:coreProperties>
</file>